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gif" ContentType="image/gif"/>
  <Override PartName="/ppt/media/image10.png" ContentType="image/png"/>
  <Override PartName="/ppt/media/image13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6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22.gif" ContentType="image/gif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A4F-660F-4917-9883-B16E8E2B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4CB-DDF1-4B85-A527-933AA92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642F5-87A0-4855-912B-840CFF7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FBA2F-18D0-44BB-9AE0-F348758D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39086-F83F-4DD7-A1E2-DEA05F4B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D5BB9-4338-485F-B0F9-4872A9A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59528-A84E-4C56-8938-DC3D554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DBFD5-97EF-4D42-B3A7-B9D3D53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C42C3-9210-44C6-9FE7-F50AE5DF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7C269-9188-4F3B-B774-A69ED63E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02ED4-321E-4555-87B8-C2F17BE7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81786-3C30-4E8B-BD27-AED1EB50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FBE-F026-45C9-9DFE-BA3F0D99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1BA1B-D825-4FA2-A7E2-2DCCD95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28374-8CD8-479F-A032-9E8BE25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CAA86-C7D2-40C8-95A0-B7E411DD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A4D58-D034-441B-A36E-8379979D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EF6A4-945C-4BBC-AA2B-8FF31F0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777F4-8FF6-4A54-8664-FEB5D1D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2015E-743D-486C-93B0-5D43C5C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D0AE1-D16A-47C3-8FC1-4530474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877A6-D8DA-4A70-9570-69318F8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11F89-526A-497C-9C98-E27D9002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7D8-2FAA-4141-9549-0D22D517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E6B7B-11A8-4D4E-B1BD-9AD70D39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0B12D-7457-4973-93B9-D1C98FE2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09BE1-19BA-43A9-81B6-509AB91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F5A2-4BC8-4013-AF6E-2D3D3D83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CB21-1EA1-441E-8D54-3F262052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0DFEF-64F6-462D-8139-29D4E22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5F19-3CB8-43D6-B83C-2F0D32A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2732F-D1A7-409E-8498-9A99699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A5886-7EDF-482B-A3B9-28EBEB09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38EE6-A863-46E0-B6A5-73BB498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C80A-4E98-4475-834C-A23BD210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FED4-08E3-4D8E-A63F-DF9F544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1755-54B6-4204-B57F-9755E34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246F2-C66D-44FB-B75D-1E8C637E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A7069-41A8-486D-8ACA-BEA3C830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9F1D2-5615-4D60-9898-3226E798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B5329-D2F5-49AB-B70E-92FAA8D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F91F7-8071-4B9D-9682-75B314B0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C6607-B339-4529-91C2-48F4AAF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6528B-4C61-42AC-8ECF-5DCEC21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EAAA6-A585-46B0-BF9F-2EC913B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088-7C7C-4388-88B4-96106DD0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1CBCD-E08D-464F-80DA-325DD67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8EA31-BBEB-48EC-97F9-59A9B011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DFC5F-E09F-4576-A023-0A4DD38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CF8CE-9679-4EEE-AEB3-2F387887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DD726-C225-47FD-BC54-F8F5E38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FB8B-C101-4186-8B6B-BBCF950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5E68-89BF-40A2-AF7F-6A946402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742-6E5D-4843-9825-482DD67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3D63-F485-4D43-A881-6516130E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DBD-1BB0-4B3D-B06D-24E6ED6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010-88AA-4CAB-8537-46956B8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CB49-24F8-42BE-8E29-9288623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F6F-5E45-4FB4-9678-40DEDE5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126-FBB8-46AC-8BA6-B053AA5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D361-7970-4087-AA36-E2F3B868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EEE9-2337-4680-B2DC-BD17906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9582-9556-4E54-83BA-CEFCEC1F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254A-BCC0-41B4-B79E-B2FF1E2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7D29F-04C4-443F-83A6-744B89A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CDD3-9633-4414-967F-388A666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6A4E-004C-438C-8901-1043AE73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E6-4E97-490A-9E48-1E6A0D6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118A-6CEB-43B0-A23F-BBA9D3E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41E9-20C9-45E8-A270-D4D37DD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72CD-5196-4E46-B09E-D7BFBA5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398A-18E5-460B-8B88-686A9E2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CB73-77AC-4BEE-93E2-24FDB1D0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E94F-7CA0-4E39-8A2B-DCCCDE1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0477-C29A-4743-92AF-E36D7D90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A009-0726-4EF4-8F6D-9DF9767C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CB90-8AFC-48B8-BEB3-5026F6EA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889E-AFD1-44AA-9D89-7142142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ACA-4BB5-41FB-99E9-5610C6B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F31E-54AC-4309-BDAE-61F26983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146F-C5D7-4368-BD90-6B19D03D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A5D12-9CE2-47A9-BEDC-4E3C177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BAB3-0FBB-450C-B6A0-7CC3787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C10B-8D73-4E8F-BCDD-D1EC758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012C-8683-4D88-A66B-F75493D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E30D6-9BF9-423A-B140-465E513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F486-B7C6-4325-9FDC-92E024BC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D026-9A33-4F03-B2BB-14C57DF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A26D-3DC6-44C5-AE14-F7040BF9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096-FAA4-4611-AAA7-7116846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08D7-6B31-4A2E-B091-15C5809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65526-89E2-4EC8-965A-A80E3D53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8AC9-1635-45F1-9E9B-7B962ED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D44A-EEDE-4561-966E-FF40AFA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BD04-E2A6-4AEE-B0DE-0DFDFAB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629A-ADAC-42B1-94C8-244A260B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48F5-C5E1-4428-BA1B-52AD128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C9DF-7CB9-4BC4-A030-063C385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B59B-317B-491F-9E7C-CDC9317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800B-0740-4777-959B-A10530A9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E0-FFCC-496E-8FAF-27000ABF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910F-C199-49E1-B46E-9E03B0BF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6FC3-D81A-40FE-92EC-D5E1EC5B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3D1D0-5568-480A-B261-03678CA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2B7F-11DB-424C-9C15-30A29F7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1D45-D1A9-404C-ABBE-8E2EB19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61720-5763-494C-BB00-9645EF8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006D-BDEC-4157-879F-0B220C2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FBC0-5655-41D0-BC38-D868593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6A66-700A-4C52-8491-319D208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DFB62-11FE-4C2C-BEFF-E032A7AF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4ED-E024-48BD-A3D1-8349692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7088-9C19-419E-934B-FD4A78C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50F2-7688-4807-AAA3-7B8BFCEC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1CD2-E655-4389-BEC8-C38C461F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EBEE-E523-4A43-B474-15C95DD6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AB760-97A5-4956-8C13-71BFB564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77EC-747D-4BEB-A7F5-3F77D8F3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B588-49DE-454C-9D01-2087816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BD37B-D952-4E1A-A7AA-9140DB2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9FAE4-3D19-48C5-A067-6D58FDF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E37E8-CE5C-4ED3-93FB-3AACDF4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3E2-5F10-4878-AD68-C4CF17B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AAC6-786E-433F-B0E9-BDFC0F9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1E64-FBD6-40EE-A8F7-FBE89A1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9CAF-02AF-4278-91C1-91AD485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44E9-1ED1-4164-89F0-8C4BBA4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E586A-875D-44A5-B1D3-EAA1162B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65FA-A87A-4A8F-8BC9-6AB9B738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A965A-A3BF-4D93-96B8-0E01321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6C3D-9E2B-4FF3-B387-2B3512E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FE4EF-58F5-45B0-856D-57520FE0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971D-39D5-4C2F-9AD5-23E6CFD4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3A3-9069-480F-A45E-E057A95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58E7C-A972-4158-B138-524A7E9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2E859-72F3-4F2A-929B-13AA81B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DF3A-4BCE-4BA4-B26A-EB14E41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E88D4-B57E-467F-B0A7-E73D91D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F8FB4-8CA6-4CB2-A8AF-566C52A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61D8-2333-42E3-A403-5467422A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005B-BFE1-40CD-8B06-99E58764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83116-8746-4333-8FCB-EE8EDA10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31B94-C87E-4401-912C-A696545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9E20A-481D-44F3-9B99-B61CB1B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031-107B-42B6-BDC2-B628B2704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3A47-2508-4C0A-950D-D9783C26C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5379-ABE4-45F2-B2BE-98C7EE831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1581-8B48-456D-9B0A-3BAB62698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8E76-3BC0-4CC2-9FDB-6D0E9E70C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BCA6-9AD6-4524-B9D0-EE27E2B89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654-440A-41C1-AA33-019C06287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DD1-352F-42EF-9C37-3427D6CA4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746D-C030-4B4D-9F93-A1BCCE084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E7A-C2F5-4A8D-8079-951743520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B4A-5A4F-4C61-8A29-20F9D47ED7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64C-A578-4E2A-A770-BB2A63CA1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46b86"/>
                </a:solidFill>
                <a:latin typeface="Georgia"/>
              </a:rPr>
              <a:t>GRUPA IV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EXAN MATEI ADRIA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TYA COSTEL ALEX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AGO DENISA MAR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ARCHIŞ ALIN MIHA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CĂŞAN CĂTĂLINA MAR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OSCA DENIS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Sc</a:t>
            </a: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ăderea fracţiilor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 care au acela</a:t>
            </a: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ş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i numitor</a:t>
            </a:r>
            <a:br>
              <a:rPr sz="3800"/>
            </a:br>
            <a:r>
              <a:rPr b="0" lang="ro-RO" sz="3800" spc="-1" strike="noStrike">
                <a:solidFill>
                  <a:srgbClr val="ffffff"/>
                </a:solidFill>
                <a:latin typeface="Georgia"/>
              </a:rPr>
              <a:t>Aplicaţii practice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Mirel cumpără într – o zi 3 kg de roşii, iar în alta cu 1/2 kg mai puţin. Câte kg de roşii a cumpărat în cele două zil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4857840" y="221472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2"/>
          <a:stretch/>
        </p:blipFill>
        <p:spPr>
          <a:xfrm>
            <a:off x="1785960" y="5072040"/>
            <a:ext cx="1428840" cy="10288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"/>
          <p:cNvPicPr/>
          <p:nvPr/>
        </p:nvPicPr>
        <p:blipFill>
          <a:blip r:embed="rId3"/>
          <a:stretch/>
        </p:blipFill>
        <p:spPr>
          <a:xfrm>
            <a:off x="6000840" y="4286160"/>
            <a:ext cx="2786040" cy="1952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03-apple.gif"/>
          <p:cNvPicPr/>
          <p:nvPr/>
        </p:nvPicPr>
        <p:blipFill>
          <a:blip r:embed="rId4"/>
          <a:stretch/>
        </p:blipFill>
        <p:spPr>
          <a:xfrm>
            <a:off x="7358040" y="2714760"/>
            <a:ext cx="1443240" cy="11188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03-cherry.gif"/>
          <p:cNvPicPr/>
          <p:nvPr/>
        </p:nvPicPr>
        <p:blipFill>
          <a:blip r:embed="rId5"/>
          <a:stretch/>
        </p:blipFill>
        <p:spPr>
          <a:xfrm>
            <a:off x="4786200" y="5000760"/>
            <a:ext cx="738360" cy="9223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Bogdan cheltuieşte 5/7 din suma pe care o are pentru a cumpăra un stilou şi un aparat de fotografiat. Preţul stiloului reprezintă 2/7 din suma totală. Ce parte din suma totală reprezintă preţul aparatului de fotografiat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7" descr=""/>
          <p:cNvPicPr/>
          <p:nvPr/>
        </p:nvPicPr>
        <p:blipFill>
          <a:blip r:embed="rId1"/>
          <a:stretch/>
        </p:blipFill>
        <p:spPr>
          <a:xfrm>
            <a:off x="5500800" y="2357280"/>
            <a:ext cx="1643040" cy="1238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1320840" cy="909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Appareil photo (80x65px)"/>
          <p:cNvPicPr/>
          <p:nvPr/>
        </p:nvPicPr>
        <p:blipFill>
          <a:blip r:embed="rId3"/>
          <a:stretch/>
        </p:blipFill>
        <p:spPr>
          <a:xfrm>
            <a:off x="5786280" y="4357800"/>
            <a:ext cx="1643400" cy="13348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untitled.bmp"/>
          <p:cNvPicPr/>
          <p:nvPr/>
        </p:nvPicPr>
        <p:blipFill>
          <a:blip r:embed="rId4"/>
          <a:stretch/>
        </p:blipFill>
        <p:spPr>
          <a:xfrm>
            <a:off x="7643880" y="428760"/>
            <a:ext cx="585720" cy="58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 -0.09782 C -0.05902 -0.08973 -0.05416 -0.08325 -0.05017 -0.07516 C -0.04513 -0.08325 -0.04114 -0.08973 -0.03506 -0.09782 C -0.000169999999999997 -0.14454 0.04184 -0.16443 0.05886 -0.14315 C 0.07483 -0.12049 0.0599 -0.06452 0.02483 -0.01781 C 0.01893 -0.01133 0.01389 -0.00462 0.00782 0.00208 C 0.01389 0.0074 0.01893 0.01411 0.02483 0.02197 C 0.0599 0.06869 0.07483 0.12465 0.05886 0.14593 C 0.04184 0.1686 -0.000169999999999997 0.14871 -0.03506 0.10199 C -0.04114 0.0939 -0.04513 0.08742 -0.05017 0.07933 C -0.05416 0.08742 -0.05902 0.0939 -0.0651 0.10199 C -0.10017 0.14871 -0.14218 0.1686 -0.15902 0.14593 C -0.17517 0.12465 -0.16006 0.06869 -0.12517 0.02197 C -0.11909 0.01411 -0.11406 0.0074 -0.10816 0.00208 C -0.11406 -0.00462 -0.11909 -0.01133 -0.12517 -0.01781 C -0.16006 -0.06452 -0.17517 -0.12049 -0.15902 -0.14315 C -0.14218 -0.16443 -0.10017 -0.14454 -0.0651 -0.09782 Z">
                                      <p:cBhvr>
                                        <p:cTn id="41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6 -0.07007 C 0.01962 -0.0666 0.01667 -0.06336 0.01667 -0.05943 C 0.01667 -0.05781 0.01788 -0.05619 0.0184 -0.05458 C 0.01893 -0.05296 0.01962 -0.05111 0.02014 -0.04972 C 0.02136 -0.04648 0.02257 -0.04347 0.02379 -0.04024 C 0.02483 -0.037 0.02709 -0.03052 0.02691 -0.03052 C 0.0283 -0.02104 0.02726 -0.02636 0.03143 -0.01503 C 0.03212 -0.01364 0.03334 -0.01017 0.03316 -0.01017 C 0.03959 -0.00578 0.04566 -0.00115 0.05191 0.00324 C 0.0625 0.0007 0.05799 0.00185 0.06545 -0.00023 C 0.07136 -0.00185 0.07778 -0.00832 0.08334 -0.01179 C 0.08715 -0.01942 0.08837 -0.0222 0.08542 -0.03075 C 0.08715 -0.04209 0.08646 -0.03191 0.08455 -0.04162 C 0.08368 -0.04532 0.08281 -0.05365 0.08264 -0.05342 C 0.08455 -0.06475 0.08542 -0.06637 0.08229 -0.07608 C 0.08403 -0.0895 0.09323 -0.10245 0.10382 -0.09967 C 0.1099 -0.10106 0.11545 -0.09944 0.12066 -0.09597 C 0.12518 -0.08903 0.13108 -0.08279 0.13316 -0.07423 C 0.14011 -0.04602 0.13143 -0.07238 0.13663 -0.05735 C 0.14236 -0.05157 0.14479 -0.04833 0.15156 -0.04648 C 0.15573 -0.04879 0.15938 -0.05203 0.16337 -0.05458 C 0.16563 -0.05828 0.17448 -0.06984 0.17518 -0.07724 C 0.17622 -0.08857 0.16858 -0.10152 0.16389 -0.10939 C 0.15729 -0.12719 0.14757 -0.1265 0.15087 -0.14662 C 0.15538 -0.14523 0.15834 -0.14315 0.1625 -0.14038 C 0.1632 -0.13922 0.16945 -0.12951 0.17031 -0.12488 C 0.17118 -0.12095 0.17205 -0.11309 0.17188 -0.11285 C 0.17031 -0.10152 0.17084 -0.11216 0.17292 -0.10222 C 0.17552 -0.08973 0.175 -0.08001 0.17969 -0.06868 C 0.18056 -0.0666 0.18143 -0.06475 0.18212 -0.06267 C 0.18351 -0.05943 0.18577 -0.05319 0.18559 -0.05296 C 0.18559 -0.03584 0.17882 -0.02058 0.17292 -0.00555 C 0.16528 0.00324 0.15573 0.02105 0.14393 0.01781 C 0.13646 0.02267 0.1283 0.03909 0.11979 0.03284 C 0.11754 0.03354 0.1092 0.03863 0.10799 0.03863 C 0.10504 0.03863 0.09913 0.03608 0.09896 0.03631 C 0.09479 0.03724 0.09097 0.04024 0.08646 0.04071 C 0.08125 0.0414 0.07622 0.04117 0.07118 0.04163 C 0.06962 0.04163 0.0684 0.04302 0.06684 0.04279 C 0.06059 0.04186 0.05018 0.03307 0.04462 0.02937 C 0.02969 0.0192 0.0309 0.0643 -1.94444E-006 -3.62627E-006 E">
                                      <p:cBhvr>
                                        <p:cTn id="45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5 0.0821 C -0.11597 0.09159 -0.15139 0.1013 -0.17031 0.12581 C -0.18923 0.15033 -0.17656 0.21416 -0.19444 0.22873 C -0.21232 0.2433 -0.26545 0.20213 -0.27795 0.21369 C -0.29045 0.22526 -0.26614 0.26943 -0.26909 0.29788 C -0.27205 0.32632 -0.31614 0.36541 -0.29566 0.38391 C -0.27517 0.40241 -0.17448 0.41605 -0.14635 0.40912 C -0.11823 0.40218 -0.13628 0.34829 -0.12725 0.34182 C -0.11823 0.33534 -0.10173 0.37096 -0.09184 0.37049 C -0.08194 0.37003 -0.075 0.35407 -0.06788 0.33835 E">
                                      <p:cBhvr>
                                        <p:cTn id="49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Pentru confecţionarea unei rochii se folosesc 13/5 m de material, iar pentru o bluză cu 6/5m mai puţin. Câţi m de material sunt necesari pentru  confecţionarea bluze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2027160" cy="2357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alexandra_doll89.gif"/>
          <p:cNvPicPr/>
          <p:nvPr/>
        </p:nvPicPr>
        <p:blipFill>
          <a:blip r:embed="rId2"/>
          <a:stretch/>
        </p:blipFill>
        <p:spPr>
          <a:xfrm>
            <a:off x="7072200" y="3857760"/>
            <a:ext cx="150840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O ladă încărcată cu marfă cântăreşte 30 ½ kg. Cât cântăreşte marfa ştiind că lada goală cântăreşte 5 ½ k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628" name="Content Placeholder 6" descr="seller3.gif"/>
          <p:cNvPicPr/>
          <p:nvPr/>
        </p:nvPicPr>
        <p:blipFill>
          <a:blip r:embed="rId2"/>
          <a:stretch/>
        </p:blipFill>
        <p:spPr>
          <a:xfrm>
            <a:off x="7000920" y="2786040"/>
            <a:ext cx="1733400" cy="1676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Doi muncitori au săpat împreună un şanţ. Primul a săpat 3/8 din lungimea şanţului. Ce parte din lungimea şanţului a săpat al doilea muncitor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642960" y="214200"/>
            <a:ext cx="857160" cy="10000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constdig.gif"/>
          <p:cNvPicPr/>
          <p:nvPr/>
        </p:nvPicPr>
        <p:blipFill>
          <a:blip r:embed="rId3"/>
          <a:stretch/>
        </p:blipFill>
        <p:spPr>
          <a:xfrm>
            <a:off x="5000760" y="3929040"/>
            <a:ext cx="2809800" cy="2173320"/>
          </a:xfrm>
          <a:prstGeom prst="rect">
            <a:avLst/>
          </a:prstGeom>
          <a:ln w="0">
            <a:noFill/>
          </a:ln>
        </p:spPr>
      </p:pic>
      <p:pic>
        <p:nvPicPr>
          <p:cNvPr id="634" name="Content Placeholder 8" descr="cement.gif"/>
          <p:cNvPicPr/>
          <p:nvPr/>
        </p:nvPicPr>
        <p:blipFill>
          <a:blip r:embed="rId4"/>
          <a:stretch/>
        </p:blipFill>
        <p:spPr>
          <a:xfrm>
            <a:off x="4643280" y="2643120"/>
            <a:ext cx="3533760" cy="16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7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Într – un magazin, la deschidere, sunt 1600 kg zahăr. Seara la închiderea magazinului se constată că s – au vândut 805 ¾ kg. Ce cantitate de zahăr a răma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7" name="Picture 7" descr=""/>
          <p:cNvPicPr/>
          <p:nvPr/>
        </p:nvPicPr>
        <p:blipFill>
          <a:blip r:embed="rId1"/>
          <a:stretch/>
        </p:blipFill>
        <p:spPr>
          <a:xfrm>
            <a:off x="6286680" y="4929120"/>
            <a:ext cx="1209600" cy="10098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"/>
          <p:cNvPicPr/>
          <p:nvPr/>
        </p:nvPicPr>
        <p:blipFill>
          <a:blip r:embed="rId2"/>
          <a:stretch/>
        </p:blipFill>
        <p:spPr>
          <a:xfrm>
            <a:off x="5715000" y="2857680"/>
            <a:ext cx="2286000" cy="1500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2060"/>
                </a:solidFill>
                <a:latin typeface="Georgia"/>
              </a:rPr>
              <a:t>Un călător a parcurs în două zile 9/13 din totalul drumului pe care îl are de parcurs. Dacă in prima zi a parcurs 6/13 din tot drumul, ce fracţie (din tot drumul) a parcurs în a doua zi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o-RO" sz="2300" spc="-1" strike="noStrike">
                <a:solidFill>
                  <a:srgbClr val="002060"/>
                </a:solidFill>
                <a:latin typeface="Georgia"/>
              </a:rPr>
              <a:t>Ce fracţie din tot drumul mai are de parcurs după primele două zile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914400" cy="857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Boule et bill (143x144px)"/>
          <p:cNvPicPr/>
          <p:nvPr/>
        </p:nvPicPr>
        <p:blipFill>
          <a:blip r:embed="rId2"/>
          <a:stretch/>
        </p:blipFill>
        <p:spPr>
          <a:xfrm>
            <a:off x="5214960" y="2786040"/>
            <a:ext cx="2978280" cy="3000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8" descr="Spiderman (176x208px)"/>
          <p:cNvPicPr/>
          <p:nvPr/>
        </p:nvPicPr>
        <p:blipFill>
          <a:blip r:embed="rId3"/>
          <a:stretch/>
        </p:blipFill>
        <p:spPr>
          <a:xfrm>
            <a:off x="7215120" y="142920"/>
            <a:ext cx="928800" cy="110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6T09:29:13Z</dcterms:modified>
  <cp:revision>13</cp:revision>
  <dc:subject/>
  <dc:title>Slide 1</dc:title>
</cp:coreProperties>
</file>